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C14-732A-4B1C-9FEE-6A86D078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474-DC77-4001-A5EB-3495739A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DB1-613D-46D6-826E-A320BC0B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9A8-8DCF-4356-B559-DF0E32C8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5EB0-C1D5-4A9C-AD01-3DDFCC6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E743-DFAC-4DE7-A24B-721BF4C3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C835-1E8D-4C48-8029-9E9C3F68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4D65-6E9F-47B4-B263-07C5F0C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363-773F-4E9F-A201-9B29F04A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8251-420C-4605-9599-99A438F0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590-9042-4FCE-8832-75BF17D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DDA-C03A-414A-B091-39388CD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2A56-CF14-44D2-8B5E-15061E5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6AED-F367-4919-8A06-28E26C6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FAB4-EB7C-4495-B782-9E9BFFF5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F054-B080-45D7-9D87-348D1979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82EF-055C-4FC2-AAB3-9246C7B5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F61-332F-4C34-97BC-89D765DC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826-BF54-4665-A040-967D4767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A85-1D96-4FBB-8F87-E8C4C55B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571-7B76-4001-B3A4-23AEA9D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9C4-F500-403C-A239-3CC0D75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C80-FDC0-4923-9A7B-7A15E9C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5A6-B322-48F7-9A6A-43D1728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399C-5E76-4726-912C-39E8E9A37F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A493-5B8D-4961-8C87-1FDD851F21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bellido.caribe.pageout.net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css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00"/>
                </a:solidFill>
                <a:latin typeface="Garamond"/>
              </a:rPr>
              <a:t>Redacción de Planes y Objetivos Instruccionales para Estudios Sociales e Historia</a:t>
            </a:r>
            <a:endParaRPr b="0" lang="en-US" sz="46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 Canny Bel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versidad de Puerto Rico Mayagü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1125360"/>
          <a:ext cx="8980560" cy="5629320"/>
        </p:xfrm>
        <a:graphic>
          <a:graphicData uri="http://schemas.openxmlformats.org/drawingml/2006/table">
            <a:tbl>
              <a:tblPr/>
              <a:tblGrid>
                <a:gridCol w="1979640"/>
                <a:gridCol w="1554120"/>
                <a:gridCol w="1758960"/>
                <a:gridCol w="1766880"/>
                <a:gridCol w="1920960"/>
              </a:tblGrid>
              <a:tr h="6361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ón de procesos cognitiv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89b9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ón de Conocimi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d7d2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2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7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dd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cogni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</a:tr>
              <a:tr h="63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d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06200" y="29844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6600"/>
                </a:solidFill>
                <a:latin typeface="Garamond"/>
              </a:rPr>
              <a:t>Dimensiones Cognoscitivas Bloom-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19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08000" y="339840"/>
            <a:ext cx="93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6600"/>
                </a:solidFill>
                <a:latin typeface="Garamond"/>
              </a:rPr>
              <a:t>Dimensiones Cognoscitivas Bloom-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000" y="1052640"/>
          <a:ext cx="8915400" cy="5790960"/>
        </p:xfrm>
        <a:graphic>
          <a:graphicData uri="http://schemas.openxmlformats.org/drawingml/2006/table">
            <a:tbl>
              <a:tblPr/>
              <a:tblGrid>
                <a:gridCol w="2111400"/>
                <a:gridCol w="6804000"/>
              </a:tblGrid>
              <a:tr h="102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ar, reconocer información específica tales como:  hechos, sucesos, fechas, nombres, símbolos, teorías, definiciones y o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nder el material que se ha aprendido.  Esto se demuestra cuando se presenta la información de otra forma, se transforma, se buscan relaciones, se asocia, se interpreta(explica o resume); o se presentan posibles efectos o consecuenci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a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el conocimiento y destrezas adquiridas en nuevas situa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3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mponer el todo en sus partes, se solucionan problemas a la luz del conocimiento adquirido y razon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75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uiciar (selecciona, critica, justifica) sobre la base de criterios establec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5b9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, mejorar, optimizar o se hace algo origi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20600" y="1400040"/>
          <a:ext cx="8915400" cy="5373720"/>
        </p:xfrm>
        <a:graphic>
          <a:graphicData uri="http://schemas.openxmlformats.org/drawingml/2006/table">
            <a:tbl>
              <a:tblPr/>
              <a:tblGrid>
                <a:gridCol w="1828800"/>
                <a:gridCol w="2438280"/>
                <a:gridCol w="2438640"/>
                <a:gridCol w="2209680"/>
              </a:tblGrid>
              <a:tr h="42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Palabras Indic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fin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s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otu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dent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pit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ién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é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uándo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ón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uen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crib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cog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ami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abu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i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edic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soci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stim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ferenci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tien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sum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crib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terpre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scute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tien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s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stingue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arafrase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lustr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a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plic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le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lust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uest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ami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od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la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ambi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las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erimen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cubr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s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u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suelv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struy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alcula       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T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920" y="152280"/>
          <a:ext cx="9109080" cy="1095480"/>
        </p:xfrm>
        <a:graphic>
          <a:graphicData uri="http://schemas.openxmlformats.org/drawingml/2006/table">
            <a:tbl>
              <a:tblPr/>
              <a:tblGrid>
                <a:gridCol w="1944720"/>
                <a:gridCol w="2376360"/>
                <a:gridCol w="2521080"/>
                <a:gridCol w="2266920"/>
              </a:tblGrid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ZAR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er Inform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9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ción explic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a3c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uso del conocimi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197000"/>
          <a:ext cx="9180360" cy="5472000"/>
        </p:xfrm>
        <a:graphic>
          <a:graphicData uri="http://schemas.openxmlformats.org/drawingml/2006/table">
            <a:tbl>
              <a:tblPr/>
              <a:tblGrid>
                <a:gridCol w="1979640"/>
                <a:gridCol w="2232000"/>
                <a:gridCol w="2448000"/>
                <a:gridCol w="2520720"/>
              </a:tblGrid>
              <a:tr h="39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Palabras Indic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epa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orde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ec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i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a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eleccion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ier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rreg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las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naliz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ategoriz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a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s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ci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stablece gradación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ueb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juzg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valo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rit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just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poy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enc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cluy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eleccio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edice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rgumen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combi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tegr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orden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lane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vent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 pasa si?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epar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generaliz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on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od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señ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lantea hipótesis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ven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arrol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escribe     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T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-36360" y="123840"/>
          <a:ext cx="9180360" cy="1095480"/>
        </p:xfrm>
        <a:graphic>
          <a:graphicData uri="http://schemas.openxmlformats.org/drawingml/2006/table">
            <a:tbl>
              <a:tblPr/>
              <a:tblGrid>
                <a:gridCol w="2016000"/>
                <a:gridCol w="2232000"/>
                <a:gridCol w="2438280"/>
                <a:gridCol w="2494080"/>
              </a:tblGrid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</a:t>
                      </a:r>
                      <a:br>
                        <a:rPr sz="22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den superior) Dividir, Desglo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 </a:t>
                      </a:r>
                      <a:br>
                        <a:rPr sz="22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den superior) Juzgar el 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75a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 </a:t>
                      </a:r>
                      <a:br>
                        <a:rPr sz="22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den superior) Reunir, Incorpor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5b9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2240" y="117000"/>
            <a:ext cx="707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AXONOMÍA DE BLOOM DE HABILIDADES DE PENS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404640"/>
          <a:ext cx="9145440" cy="5776920"/>
        </p:xfrm>
        <a:graphic>
          <a:graphicData uri="http://schemas.openxmlformats.org/drawingml/2006/table">
            <a:tbl>
              <a:tblPr/>
              <a:tblGrid>
                <a:gridCol w="1044720"/>
                <a:gridCol w="1296720"/>
                <a:gridCol w="1295640"/>
                <a:gridCol w="1441440"/>
                <a:gridCol w="1439640"/>
                <a:gridCol w="1368720"/>
                <a:gridCol w="1258560"/>
              </a:tblGrid>
              <a:tr h="100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EGO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OCIMIENTO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ger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R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rmación Apl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CIÓN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cer uso del Cono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ÁLISIS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Dividir, Desglo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a3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Juzgar el resul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3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Reunir, Incorpor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</a:tr>
              <a:tr h="47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-ció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 habilidades que se deben demostrar en este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vel so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ervación y recordación de información; conocimiento de fechas, eventos, lugares; conocimiento de las ideas principales; dominio de la mater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nder la información; captar el significado; trasladar el conocimiento a nuevos contextos; interpretar hechos; comparar, contrastar; ordenar, agrupar; inferir las causas predecir las consecuenc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cer uso de la información; utilizar métodos, conceptos, teorías, en situaciones nuevas; solucionar problemas usando habilidades o conocimie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contrar patrones; organizar las partes; reconocer significados ocultos; identificar compone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ar y discriminar entre ideas; dar valor a la presentación de teorías; escoger basándose en argumentos razonados; verificar el valor de 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ideas viejas para crear otras nuevas; generalizar a partir de datos suministrados; relacionar conocimiento de áreas diversas; predecir conclusiones deriva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4920" y="692280"/>
          <a:ext cx="9001080" cy="375732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433520"/>
                <a:gridCol w="1222560"/>
                <a:gridCol w="1231920"/>
                <a:gridCol w="1152360"/>
                <a:gridCol w="1368360"/>
              </a:tblGrid>
              <a:tr h="100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EGO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OCIMIENTO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ger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R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rmación Apl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CIÓN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cer uso del Cono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ÁLISIS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Dividir, Desglo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Juzgar el resul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Reunir, Incorpor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</a:tr>
              <a:tr h="306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e hace el Estudia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cuerda y reconoce información e ideas además de principios aproximadamente en misma forma en que los aprendió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clarece, comprende, o interpreta información en base a conocimiento prev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cciona, transfiere, y utiliza datos y principios para completar una tarea o solucionar un probl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ferencia, clasifica, y relaciona las conjeturas, hipótesis, evidencias, o estructuras de una pregunta o aseve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a, evalúa o critica en base a estándares y criterios específic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nera, integra y combina ideas en un producto, plan o propuesta nuevos para él o el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38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c6d4e"/>
                </a:solidFill>
                <a:latin typeface="Garamond"/>
              </a:rPr>
              <a:t>¿Cómo se relacionan, entonces, el estándar de </a:t>
            </a:r>
            <a:r>
              <a:rPr b="0" lang="en-US" sz="5000" spc="-1" strike="noStrike">
                <a:solidFill>
                  <a:srgbClr val="333333"/>
                </a:solidFill>
                <a:latin typeface="Garamond"/>
              </a:rPr>
              <a:t>contenido</a:t>
            </a:r>
            <a:r>
              <a:rPr b="0" lang="en-US" sz="5000" spc="-1" strike="noStrike">
                <a:solidFill>
                  <a:srgbClr val="4c6d4e"/>
                </a:solidFill>
                <a:latin typeface="Garamond"/>
              </a:rPr>
              <a:t> y el de </a:t>
            </a:r>
            <a:r>
              <a:rPr b="0" lang="en-US" sz="5000" spc="-1" strike="noStrike">
                <a:solidFill>
                  <a:srgbClr val="333333"/>
                </a:solidFill>
                <a:latin typeface="Garamond"/>
              </a:rPr>
              <a:t>ejecución</a:t>
            </a:r>
            <a:r>
              <a:rPr b="0" lang="en-US" sz="5000" spc="-1" strike="noStrike">
                <a:solidFill>
                  <a:srgbClr val="4c6d4e"/>
                </a:solidFill>
                <a:latin typeface="Garamond"/>
              </a:rPr>
              <a:t>?</a:t>
            </a:r>
            <a:endParaRPr b="0" lang="en-US" sz="5000" spc="-1" strike="noStrike">
              <a:solidFill>
                <a:srgbClr val="0066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00"/>
                </a:solidFill>
                <a:latin typeface="Garamond"/>
              </a:rPr>
              <a:t>Relación entre estándar de contenido y ejecución 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1052640"/>
            <a:ext cx="9143640" cy="4321080"/>
            <a:chOff x="0" y="1052640"/>
            <a:chExt cx="9143640" cy="4321080"/>
          </a:xfrm>
        </p:grpSpPr>
        <p:cxnSp>
          <p:nvCxnSpPr>
            <p:cNvPr id="128" name="_s48144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385240" y="1981800"/>
              <a:ext cx="835560" cy="2461680"/>
            </a:xfrm>
            <a:prstGeom prst="bentConnector3">
              <a:avLst>
                <a:gd name="adj1" fmla="val 13663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131" name="_s48140"/>
            <p:cNvCxnSpPr>
              <a:stCxn id="132" idx="0"/>
              <a:endCxn id="130" idx="2"/>
            </p:cNvCxnSpPr>
            <p:nvPr/>
          </p:nvCxnSpPr>
          <p:spPr>
            <a:xfrm flipH="1" flipV="1" rot="5400000">
              <a:off x="2923560" y="1981440"/>
              <a:ext cx="835560" cy="2463120"/>
            </a:xfrm>
            <a:prstGeom prst="bentConnector3">
              <a:avLst>
                <a:gd name="adj1" fmla="val 13663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130" name="_s48136"/>
            <p:cNvSpPr/>
            <p:nvPr/>
          </p:nvSpPr>
          <p:spPr>
            <a:xfrm>
              <a:off x="2460960" y="1052640"/>
              <a:ext cx="4219920" cy="1728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600" spc="-1" strike="noStrike">
                  <a:solidFill>
                    <a:srgbClr val="000000"/>
                  </a:solidFill>
                  <a:latin typeface="Garamond"/>
                </a:rPr>
                <a:t>Estándares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8137"/>
            <p:cNvSpPr/>
            <p:nvPr/>
          </p:nvSpPr>
          <p:spPr>
            <a:xfrm>
              <a:off x="0" y="3645000"/>
              <a:ext cx="4219920" cy="1728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700" spc="-1" strike="noStrike">
                  <a:solidFill>
                    <a:srgbClr val="000000"/>
                  </a:solidFill>
                  <a:latin typeface="Garamond"/>
                </a:rPr>
                <a:t>De Contenido 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Garamond"/>
                </a:rPr>
                <a:t>nos describe las competencias que el estudiante debe desarrol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3"/>
            <p:cNvSpPr/>
            <p:nvPr/>
          </p:nvSpPr>
          <p:spPr>
            <a:xfrm>
              <a:off x="4923720" y="3645000"/>
              <a:ext cx="4219920" cy="1728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900" spc="-1" strike="noStrike">
                  <a:solidFill>
                    <a:srgbClr val="000000"/>
                  </a:solidFill>
                  <a:latin typeface="Garamond"/>
                </a:rPr>
                <a:t>De Ejecución y Assessment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300" spc="-1" strike="noStrike">
                  <a:solidFill>
                    <a:srgbClr val="000000"/>
                  </a:solidFill>
                  <a:latin typeface="Garamond"/>
                </a:rPr>
                <a:t>nos ofrece</a:t>
              </a:r>
              <a:r>
                <a:rPr b="0" lang="es-ES" sz="3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s-ES" sz="2300" spc="-1" strike="noStrike">
                  <a:solidFill>
                    <a:srgbClr val="000000"/>
                  </a:solidFill>
                  <a:latin typeface="Garamond"/>
                </a:rPr>
                <a:t>ejemplos concretos de lo que el estudiante debe ser capaz de hacer para demostrar el dominio del contenid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9640" y="5300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516640"/>
            <a:ext cx="8334360" cy="1191240"/>
          </a:xfrm>
          <a:prstGeom prst="rect">
            <a:avLst/>
          </a:prstGeom>
          <a:solidFill>
            <a:srgbClr val="d5de92"/>
          </a:solidFill>
          <a:ln w="0">
            <a:noFill/>
          </a:ln>
          <a:effectLst>
            <a:outerShdw dist="40186" dir="1096358" blurRad="0" rotWithShape="0">
              <a:srgbClr val="7f84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maestros, debemos alinear el contenido que debe aprender el estudiante y el nivel de pensamiento en que queremos que demuestre lo que ha apr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62560" y="1484280"/>
            <a:ext cx="2881440" cy="2089080"/>
          </a:xfrm>
          <a:prstGeom prst="downArrowCallout">
            <a:avLst>
              <a:gd name="adj1" fmla="val 34485"/>
              <a:gd name="adj2" fmla="val 34482"/>
              <a:gd name="adj3" fmla="val 16667"/>
              <a:gd name="adj4" fmla="val 66667"/>
            </a:avLst>
          </a:prstGeom>
          <a:solidFill>
            <a:srgbClr val="ff9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pueden servir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r los objetiv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3080" y="44280"/>
          <a:ext cx="9178920" cy="6656400"/>
        </p:xfrm>
        <a:graphic>
          <a:graphicData uri="http://schemas.openxmlformats.org/drawingml/2006/table">
            <a:tbl>
              <a:tblPr/>
              <a:tblGrid>
                <a:gridCol w="3259080"/>
                <a:gridCol w="3040200"/>
                <a:gridCol w="287964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 del pl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 a usarse en la preparación del pl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que sir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contenido y Estándar específ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 y Guías de Mae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dirección y foco a la lec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</a:t>
                      </a: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P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ceptos, destrezas</a:t>
                      </a: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P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valore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 Curricular (MC)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 en el desarrollo holístico del estu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s y estrategias</a:t>
                      </a: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enseñanza, mate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ia e investigaciones, Int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r y usar las mas efecti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’s, Internet, experiencia, Estándares de assessment (M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ar el aprendizaje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mo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12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 Curricular, taxonomías, Guías del maestro,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 y evalua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texto, Guías, Int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to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 indent="-381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ción diferenciad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s, Int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egar a to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00"/>
                </a:solidFill>
                <a:latin typeface="Garamond"/>
              </a:rPr>
              <a:t>Relación entre estándar de contenido y ejecución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El nivel – </a:t>
            </a:r>
            <a:r>
              <a:rPr b="1" lang="en-US" sz="3800" spc="-1" strike="noStrike">
                <a:solidFill>
                  <a:srgbClr val="4c6d80"/>
                </a:solidFill>
                <a:latin typeface="Garamond"/>
              </a:rPr>
              <a:t>destreza de pensamiento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 - que queremos que evidencie que es capaz de lograr,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dependerá de las destrezas que hemos promovido en nuestro proceso de enseñanz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558360" y="4508640"/>
            <a:ext cx="10014840" cy="1992960"/>
          </a:xfrm>
          <a:prstGeom prst="rect">
            <a:avLst/>
          </a:prstGeom>
          <a:gradFill rotWithShape="0">
            <a:gsLst>
              <a:gs pos="0">
                <a:srgbClr val="dee5a9"/>
              </a:gs>
              <a:gs pos="100000">
                <a:srgbClr val="bac08d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O sea,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Garamond"/>
              </a:rPr>
              <a:t>no puedes pedir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en la </a:t>
            </a: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evaluación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lo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Garamond"/>
              </a:rPr>
              <a:t>que no has provocado que ocurra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en el </a:t>
            </a: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salón de cl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00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xonomía de dominios cognoscitiva de Bloom revis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mensiones cognoscitivas y dimensiones del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ción entre Objetivos, Estándares y el Marco Curricu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acción de Planes usando el Marco Curricular de Estudios Sociales y los Estándares de conten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6600"/>
                </a:solidFill>
                <a:latin typeface="Garamond"/>
              </a:rPr>
              <a:t>Redacción de Planes</a:t>
            </a:r>
            <a:endParaRPr b="0" lang="en-US" sz="50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stándares de contenido y Marco Cur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3080" y="1287360"/>
          <a:ext cx="9178920" cy="3942000"/>
        </p:xfrm>
        <a:graphic>
          <a:graphicData uri="http://schemas.openxmlformats.org/drawingml/2006/table">
            <a:tbl>
              <a:tblPr/>
              <a:tblGrid>
                <a:gridCol w="3259080"/>
                <a:gridCol w="3040200"/>
                <a:gridCol w="287964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 del pl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conten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conten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o 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específ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 del Estándar de contenido por nivel de g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ción especifica del d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 ge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ejec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ción especifica del d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 </a:t>
                      </a: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íf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ejecución Estándares de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es especificas de la lección del d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006600"/>
                </a:solidFill>
                <a:latin typeface="Garamond"/>
              </a:rPr>
              <a:t>Objetivos instruccionales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emuestran la intención del maestro sobre lo que los estudiantes deben ap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Son como un mapa - ayudan al maestro y a los estudiantes a saber para donde van y si llegaron a su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Ha sido motivo de controversia cuan específicos o generales deben ser los objetivos instru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Hay varios teóricos y técnicas de escribir objetivos instruc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Formato de Mager de Objetivos Conduc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Formatos mas generales de Grounl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800" spc="-1" strike="noStrike">
                <a:solidFill>
                  <a:srgbClr val="006600"/>
                </a:solidFill>
                <a:latin typeface="Garamond"/>
              </a:rPr>
              <a:t>Objetivos instruccionales- </a:t>
            </a:r>
            <a:r>
              <a:rPr b="0" lang="es-PR" sz="3500" spc="-1" strike="noStrike">
                <a:solidFill>
                  <a:srgbClr val="006600"/>
                </a:solidFill>
                <a:latin typeface="Garamond"/>
              </a:rPr>
              <a:t>Formato de Mager de Objetivos Conductuales</a:t>
            </a:r>
            <a:endParaRPr b="0" lang="en-US" sz="35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Requiren 3 par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000" spc="-1" strike="noStrike">
                <a:solidFill>
                  <a:srgbClr val="000000"/>
                </a:solidFill>
                <a:latin typeface="Arial"/>
              </a:rPr>
              <a:t>Conducta del estudiante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: lo que el estudiante estará haciendo o el tipo de evidencia de que el objetivo se ha cump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000" spc="-1" strike="noStrike">
                <a:solidFill>
                  <a:srgbClr val="000000"/>
                </a:solidFill>
                <a:latin typeface="Arial"/>
              </a:rPr>
              <a:t>Situación de prueba: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 La condición bajo la cual la conducta será observada o se espera que ocur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000" spc="-1" strike="noStrike">
                <a:solidFill>
                  <a:srgbClr val="000000"/>
                </a:solidFill>
                <a:latin typeface="Arial"/>
              </a:rPr>
              <a:t>Criterio de ejecución: 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El estándar o el nivel de ejecución definido como aceptabl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800" spc="-1" strike="noStrike">
                <a:solidFill>
                  <a:srgbClr val="006600"/>
                </a:solidFill>
                <a:latin typeface="Garamond"/>
              </a:rPr>
              <a:t>Objetivos instruccionales- </a:t>
            </a:r>
            <a:r>
              <a:rPr b="0" lang="es-PR" sz="3500" spc="-1" strike="noStrike">
                <a:solidFill>
                  <a:srgbClr val="006600"/>
                </a:solidFill>
                <a:latin typeface="Garamond"/>
              </a:rPr>
              <a:t>Formato de Mager de Objetivos Conductuales: Ejemplos</a:t>
            </a:r>
            <a:endParaRPr b="0" lang="en-US" sz="35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El estudiante identificará</a:t>
            </a:r>
            <a:r>
              <a:rPr b="0" lang="es-PR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correctamente al menos 5 criterios de pobreza aplicados a PR en una lista luego de leer los criterios establecidos en el informe del Censo 2000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Nivel cognoscitivo Bloom –And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33cc"/>
                </a:solidFill>
                <a:latin typeface="Arial"/>
              </a:rPr>
              <a:t>Conducta del estudi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f20062"/>
                </a:solidFill>
                <a:latin typeface="Arial"/>
              </a:rPr>
              <a:t>Situación de prueb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a7b638"/>
                </a:solidFill>
                <a:latin typeface="Arial"/>
              </a:rPr>
              <a:t>Criterio de ejecuc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800" spc="-1" strike="noStrike">
                <a:solidFill>
                  <a:srgbClr val="006600"/>
                </a:solidFill>
                <a:latin typeface="Garamond"/>
              </a:rPr>
              <a:t>Objetivos instruccionales- </a:t>
            </a:r>
            <a:r>
              <a:rPr b="0" lang="es-PR" sz="3500" spc="-1" strike="noStrike">
                <a:solidFill>
                  <a:srgbClr val="006600"/>
                </a:solidFill>
                <a:latin typeface="Garamond"/>
              </a:rPr>
              <a:t>Formato de Mager de Objetivos Conductuales: Ejemplos</a:t>
            </a:r>
            <a:endParaRPr b="0" lang="en-US" sz="35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El estudiante </a:t>
            </a:r>
            <a:r>
              <a:rPr b="0" lang="es-PR" sz="3000" spc="-1" strike="noStrike" u="sng">
                <a:solidFill>
                  <a:srgbClr val="0033cc"/>
                </a:solidFill>
                <a:uFillTx/>
                <a:latin typeface="Arial"/>
              </a:rPr>
              <a:t>identificará</a:t>
            </a:r>
            <a:r>
              <a:rPr b="0" lang="es-PR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PR" sz="3000" spc="-1" strike="noStrike">
                <a:solidFill>
                  <a:srgbClr val="006600"/>
                </a:solidFill>
                <a:latin typeface="Arial"/>
              </a:rPr>
              <a:t>correctamente al menos </a:t>
            </a:r>
            <a:r>
              <a:rPr b="0" lang="es-PR" sz="3000" spc="-1" strike="noStrike" u="sng">
                <a:solidFill>
                  <a:srgbClr val="006600"/>
                </a:solidFill>
                <a:uFillTx/>
                <a:latin typeface="Arial"/>
              </a:rPr>
              <a:t>5 criterios</a:t>
            </a:r>
            <a:r>
              <a:rPr b="0" lang="es-PR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PR" sz="3000" spc="-1" strike="noStrike" u="sng">
                <a:solidFill>
                  <a:srgbClr val="0033cc"/>
                </a:solidFill>
                <a:uFillTx/>
                <a:latin typeface="Arial"/>
              </a:rPr>
              <a:t>de pobreza aplicados a PR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000" spc="-1" strike="noStrike">
                <a:solidFill>
                  <a:srgbClr val="f20062"/>
                </a:solidFill>
                <a:latin typeface="Arial"/>
              </a:rPr>
              <a:t>en una lista luego de leer los criterios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000" spc="-1" strike="noStrike">
                <a:solidFill>
                  <a:srgbClr val="f20062"/>
                </a:solidFill>
                <a:latin typeface="Arial"/>
              </a:rPr>
              <a:t>establecidos en el informe del Censo 2000 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Nivel cognoscitivo Bloom –And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 u="sng">
                <a:solidFill>
                  <a:srgbClr val="0033cc"/>
                </a:solidFill>
                <a:uFillTx/>
                <a:latin typeface="Arial"/>
              </a:rPr>
              <a:t>Conducta del estudi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f20062"/>
                </a:solidFill>
                <a:latin typeface="Arial"/>
              </a:rPr>
              <a:t>Situación de prueb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6600"/>
                </a:solidFill>
                <a:latin typeface="Arial"/>
              </a:rPr>
              <a:t>Criterio de ejecuc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00"/>
                </a:solidFill>
                <a:latin typeface="Garamond"/>
              </a:rPr>
              <a:t>Plantilla del Plan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lantilla de estudio sociales lo puede conseguir en la siguiente dir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cbellido.caribe.pageout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y pla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1916280"/>
            <a:ext cx="934920" cy="12967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296720"/>
              <a:gd name="textAreaBottom" fmla="*/ 1236240 h 1296720"/>
            </a:gdLst>
            <a:ahLst/>
            <a:rect l="textAreaLeft" t="textAreaTop" r="textAreaRight" b="textAreaBottom"/>
            <a:pathLst>
              <a:path w="21600" h="29956">
                <a:moveTo>
                  <a:pt x="0" y="0"/>
                </a:moveTo>
                <a:lnTo>
                  <a:pt x="21600" y="0"/>
                </a:lnTo>
                <a:lnTo>
                  <a:pt x="21600" y="29956"/>
                </a:lnTo>
                <a:lnTo>
                  <a:pt x="0" y="29956"/>
                </a:lnTo>
                <a:close/>
              </a:path>
              <a:path fill="lightenLess" w="21600" h="29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56">
                <a:moveTo>
                  <a:pt x="21600" y="0"/>
                </a:moveTo>
                <a:lnTo>
                  <a:pt x="21600" y="29956"/>
                </a:lnTo>
                <a:lnTo>
                  <a:pt x="20200" y="28556"/>
                </a:lnTo>
                <a:lnTo>
                  <a:pt x="20200" y="1400"/>
                </a:lnTo>
                <a:close/>
              </a:path>
              <a:path fill="darkenLess" w="21600" h="29956">
                <a:moveTo>
                  <a:pt x="21600" y="29956"/>
                </a:moveTo>
                <a:lnTo>
                  <a:pt x="0" y="29956"/>
                </a:lnTo>
                <a:lnTo>
                  <a:pt x="1400" y="28556"/>
                </a:lnTo>
                <a:lnTo>
                  <a:pt x="20200" y="28556"/>
                </a:lnTo>
                <a:close/>
              </a:path>
              <a:path fill="lighten" w="21600" h="29956">
                <a:moveTo>
                  <a:pt x="0" y="29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56"/>
                </a:lnTo>
                <a:close/>
              </a:path>
              <a:path fill="darkenLess" w="21600" h="29956">
                <a:moveTo>
                  <a:pt x="5273" y="8163"/>
                </a:moveTo>
                <a:lnTo>
                  <a:pt x="12271" y="8163"/>
                </a:lnTo>
                <a:lnTo>
                  <a:pt x="16327" y="11662"/>
                </a:lnTo>
                <a:lnTo>
                  <a:pt x="16327" y="21793"/>
                </a:lnTo>
                <a:lnTo>
                  <a:pt x="5273" y="21793"/>
                </a:lnTo>
                <a:close/>
              </a:path>
              <a:path fill="darken" w="21600" h="29956">
                <a:moveTo>
                  <a:pt x="12271" y="8163"/>
                </a:moveTo>
                <a:lnTo>
                  <a:pt x="16327" y="11662"/>
                </a:lnTo>
                <a:lnTo>
                  <a:pt x="12271" y="1166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00"/>
                </a:solidFill>
                <a:latin typeface="Garamond"/>
              </a:rPr>
              <a:t>Actividad 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alicemos un plan utilizando la planti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demos hacerlo en pareja o individual usan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dares de Conten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rco Curr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Web sites de planes educativos Estudios Sociales e Histori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www.ncss.org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=National Council of Social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76124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6600"/>
                </a:solidFill>
                <a:latin typeface="Garamond"/>
              </a:rPr>
              <a:t>Taxonomía de Objetivos Intruccionales</a:t>
            </a:r>
            <a:br>
              <a:rPr sz="4600"/>
            </a:br>
            <a:r>
              <a:rPr b="0" lang="es-ES" sz="3800" spc="-1" strike="noStrike">
                <a:solidFill>
                  <a:srgbClr val="006600"/>
                </a:solidFill>
                <a:latin typeface="Garamond"/>
              </a:rPr>
              <a:t>Revisión Bloom -Anderson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0920" y="3962160"/>
            <a:ext cx="792324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son, L.W., &amp; Krathwohl (Eds.). A Taxonomy for Learning, Teaching, and Assessing: A Revision of Bloom's Taxonomy of Educational Objectives. New York: Longman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I Arends. Learning to Teach. McGraw-Hill Higher Education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00"/>
                </a:solidFill>
                <a:latin typeface="Garamond"/>
              </a:rPr>
              <a:t>La Taxonomía de Bloom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 que los educadores quieren que aprendan los alumnos puede ser organizado en una jerarquía en niveles cognoscitivos desde lo mas simple hasta lo mas complej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axonomía Cognoscitiva contiene seis niveles, con subniveles identificado dentro de cada nive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00"/>
                </a:solidFill>
                <a:latin typeface="Garamond"/>
              </a:rPr>
              <a:t>La Taxonomía de Bloom revisada por Anderson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originales de Blo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l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ínte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iveles revisados por Anderson (2001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mor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p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lic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669440" cy="526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3000" y="152280"/>
            <a:ext cx="7162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La Taxonomía de dominios cognoscitivos Bloom-Anderson</a:t>
            </a:r>
            <a:r>
              <a:rPr b="0" lang="es-ES_tradnl" sz="4600" spc="-1" strike="noStrike">
                <a:solidFill>
                  <a:srgbClr val="006600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38480" y="2830680"/>
            <a:ext cx="1544760" cy="181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005360"/>
            <a:ext cx="8498160" cy="2852640"/>
          </a:xfrm>
          <a:prstGeom prst="ellipse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292640"/>
            <a:ext cx="2665440" cy="1373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j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41360"/>
            <a:ext cx="9144000" cy="321300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2852640"/>
            <a:ext cx="2879640" cy="1373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t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Ejemplos de objetivos usando la taxonomía de Bloom -Anderson</a:t>
            </a:r>
            <a:endParaRPr b="0" lang="en-US" sz="34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ocimiento (Memo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li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definirá los seis niveles de la taxonomía del dominio cognitivo de  Bl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explicará el propósito de la Taxonomía del Dominio Cognitivo de  Blo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escribirá un objetivo de instrucción para cada nivel de la Taxonomía de Bloo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Ejemplos de objetivos usando la taxonomía de Bloom -Anderson</a:t>
            </a:r>
            <a:endParaRPr b="0" lang="en-US" sz="34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62040"/>
            <a:ext cx="4032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e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3280" y="121284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comparará y contrastará los dominios afectivo y cognitiv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juzgará la efectividad de escribir los objetivos utilizando la Taxonomía de Bl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diseñará un esquema de clasificación para escribir objetivos educativos que combina los dominios cognitivo, afectivo y psicomoto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Usos de la taxonomía de Bloom -Anderson</a:t>
            </a:r>
            <a:endParaRPr b="0" lang="en-US" sz="34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ando el/la maestro/a redacta los objetivos en su plan, toma en consideración estos niveles cognoscitivos para asegurarse variedad en los tipos de niveles cognoscitivos a los que pone a trabajar a sus estudi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 estudiante, por medio de las actividades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logra las destrezas y conocimient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l nivel que se especifica en los objetiv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objetivos permiten enfocar la evaluación de los estudiante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3:22:39Z</dcterms:created>
  <dc:creator>DOLLY CLAUDIO</dc:creator>
  <dc:description/>
  <dc:language>en-US</dc:language>
  <cp:lastModifiedBy>BlueDeep</cp:lastModifiedBy>
  <dcterms:modified xsi:type="dcterms:W3CDTF">2011-02-21T07:58:00Z</dcterms:modified>
  <cp:revision>41</cp:revision>
  <dc:subject/>
  <dc:title>La Taxonomía de Bloom</dc:title>
</cp:coreProperties>
</file>